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BA9-3237-47FF-9B61-E65C7958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990-95C1-4486-A030-42515FC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89D-3EA5-4EDA-99C1-6DA7AD92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362-B5C7-4520-93F9-ABC9F50C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6285-D480-4F34-BC38-3E55769B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4429-6A61-4380-A294-F354C2C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1FA3-52BB-4A30-8D05-1176DB3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5698-D615-4EC2-85C5-639F33A6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44AE-8588-4D33-BC07-8EB855C2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DE9-D025-46FB-85E3-BD22C007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A3BF-A6A6-4258-B540-9B60CDB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FDB-0FB6-46F1-AF36-992CEFC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527B-EB70-4E29-B9E5-DD76BCD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E1D7-8CA4-4C93-AF38-3EF80A3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8E65-87FE-476E-A1DD-89A4CAF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883-39BE-4FA6-83D0-EEB8DE88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30D0-AF24-45DF-A5D4-DDCF3AFC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777-FB46-4E38-8C2D-A5143EB7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616-A5E0-4CDC-A33E-6464A91E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6B0-3D6A-4163-B5E9-DD547A2A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667-FF86-4850-BF2D-23F2641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837-391E-42D7-8C30-7C8B9132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8AB-C7FC-4732-9B97-0D59A41A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49B-A877-4759-8053-2E4A4D7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DAA2-3439-4F31-AC2F-0429D03A21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630-9FE1-43BE-8D8E-F79EE143E7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6.xml"/><Relationship Id="rId6" Type="http://schemas.openxmlformats.org/officeDocument/2006/relationships/slide" Target="slide14.xml"/><Relationship Id="rId7" Type="http://schemas.openxmlformats.org/officeDocument/2006/relationships/slide" Target="slide5.xml"/><Relationship Id="rId8" Type="http://schemas.openxmlformats.org/officeDocument/2006/relationships/slide" Target="slide17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rtcuts and Hotk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066680"/>
          <a:ext cx="5257800" cy="482580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Ctrl – 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Ctrl – 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Ctrl –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Ctrl – 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Ctrl – 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Ctrl – 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Ctrl – 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Ctrl – 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Ctrl – 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- 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 – T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T - T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ing the ALT key and pressing tab moves between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152520" cy="1962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saves what you are work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39840" cy="17478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specific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word and allows you to replace it with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105520" cy="30387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es text or a file to another 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07180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ld fac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76720" y="2666880"/>
            <a:ext cx="278604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es text or a file to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87920" cy="27129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87828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new file in the program you are u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809880" cy="30700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file when in a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8320" cy="34686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your words in 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9072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s all text or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0800" cy="29116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o – takes back the last action you typed (usual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73708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a file or text and places it on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38640" cy="237168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lin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6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 – if you hit undo by mistake, this will bring i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s a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436840" cy="271008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07:53Z</dcterms:created>
  <dc:creator>OIT</dc:creator>
  <dc:description/>
  <dc:language>en-US</dc:language>
  <cp:lastModifiedBy>OIT</cp:lastModifiedBy>
  <dcterms:modified xsi:type="dcterms:W3CDTF">2007-01-25T03:50:39Z</dcterms:modified>
  <cp:revision>5</cp:revision>
  <dc:subject/>
  <dc:title>Shortcuts and Hotkeys</dc:title>
</cp:coreProperties>
</file>